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6F0-F716-456F-88B3-83438443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8CC-8883-45D8-B5F3-2321CAB3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1F5-1412-45F6-B220-81459F3C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BB2-2D8E-4433-A3AA-5F560E48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0B1-F16B-42FB-B2C3-5B90347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E91-CFDA-4AB6-9650-4BA8F54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B78-208F-469A-8EDB-D800F5D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409-D221-4F72-8AA7-929742B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274-45A8-433B-9DC2-2DADB740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6BE-2280-470A-AB4F-856CC94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ECD-2FFF-4EB6-B67D-F6422D1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CFC-D7A7-4F82-B63C-6425583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115-36D6-4A5D-BC6A-4CB67FFF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8291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DIABETES  ME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601992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Conc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função orgânica provocada pela deficiência de secreção de insulina e/ou Glucagon pelas células  Beta do pâncreas. 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Curio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hereditariedade é um dos fatores predisponentes para manifestação da diabe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obesidade também contribui para o desenvolvimento da diabe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 obesidade as células Beta ficam menos sensíveis  ao aumento da glicose sangüínea ,  desta forma os níveis sangüíneos de insulina não aumentam quando necess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obesidade diminui o número de receptores insulínicos em todo o corpo,  reduzindo a quantidade e eficiência da insulina nas suas funções metabólicas   habitu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533520"/>
            <a:ext cx="5410440" cy="79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Sintomato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urese (perda excessiva de água na urin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lidipsia (sede constan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liúria (urina abundan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lifagia (fome constan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agrecimento em alguns cas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piração rápida e profu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Sintomatologia do coma diabét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 coma diabético ocorre em razão da acidose, reduzindo e pH dos líquidos sangüíneos  abaixo de 7,0. Ocorre uma desidratação acelerada levando a m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áuseas e vômi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piração rápida e profun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aquicardia;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nolênci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ipotens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res musculares, abdominais e torác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le se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ucosas e olhos ressec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álito cetô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9907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IABETE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9417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6858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67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iclo de produção da insu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36:16Z</dcterms:created>
  <dc:creator>Heloisa</dc:creator>
  <dc:description/>
  <dc:language>en-US</dc:language>
  <cp:lastModifiedBy>Heloisa</cp:lastModifiedBy>
  <dcterms:modified xsi:type="dcterms:W3CDTF">2000-05-11T23:38:14Z</dcterms:modified>
  <cp:revision>1</cp:revision>
  <dc:subject/>
  <dc:title>Slide sem título </dc:title>
</cp:coreProperties>
</file>