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6734-CE38-4767-8585-B4EF904EF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32CB-AD7A-4681-B71C-FC0ADE7E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D373-788E-42E7-B8B8-2643A326A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0CBE-BCC9-4453-A967-2EE4DA317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E87F-3DD0-4E19-86D6-E20B1780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0647-C6D8-4128-A7A5-0EA14FCE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B5B6-A2E9-4A6A-8BA4-3E0C808A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A2D4-E35F-487C-A775-9C0CAC32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A6CD-4E3C-42ED-B608-ADE3A485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A9B8-A2F5-46FD-8817-99A824A7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1FAE-0F1F-4F3B-81A3-1411FD3E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E013-377B-4E2F-BDC0-B88A345D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0675-6241-4A5D-A898-25123636E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4440" y="812880"/>
            <a:ext cx="5829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DERRAME CEREBRAL</a:t>
            </a:r>
            <a:br>
              <a:rPr sz="32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Acidente Vascular Cerebral - AVC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2971800"/>
            <a:ext cx="6096240" cy="57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 Reconhec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r de cabeç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migamento, paralisia de extremidades e/ou face (habitualmente de um só lado do corpo - Hemiplegia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terações do nível de consciênci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iculdades em articular palavr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vulsão e com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iculdade respiratóri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áuseas e vômit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ntur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ngramentos (pouco freqüente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990720"/>
            <a:ext cx="5105160" cy="73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cc99"/>
                </a:solidFill>
                <a:latin typeface="Times New Roman"/>
              </a:rPr>
              <a:t>2. Condu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valiar estado de consciência da vítima por perguntas simples (você está bem?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valiar adequação da ventilação da vítim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sobstruir vias áreas (se atentar para presença de vômitos, dentes, próteses, sangue ou outras secreçõe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ermitir ventilação adequada pelas várias manobr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- tripla manobra das vias aé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b- ventilação com máscara / amb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dministrar oxigênio suplementar p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- cateter na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b- máscara fa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- ventilação com máscara / ambú c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oxigênio enriquec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edir a pressão arterial do pacien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Transportar o paciente para hospital, conforme orientação do médico controlado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1T23:41:06Z</dcterms:created>
  <dc:creator>Heloisa</dc:creator>
  <dc:description/>
  <dc:language>en-US</dc:language>
  <cp:lastModifiedBy>Heloisa</cp:lastModifiedBy>
  <dcterms:modified xsi:type="dcterms:W3CDTF">2000-05-11T23:42:05Z</dcterms:modified>
  <cp:revision>1</cp:revision>
  <dc:subject/>
  <dc:title>Slide sem título </dc:title>
</cp:coreProperties>
</file>