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A96-D532-41CA-8473-DB329566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9E4-B679-4946-96C0-FC6C1938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8CB-65EA-4515-BE3D-ABDAD27E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3B2-4564-4900-B043-95B88349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07A0-3E6D-4368-9DFB-A36AB38C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7FB5-A897-489A-8316-A2A0C5CD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DEBC-DD9A-40B7-9389-22C4D76F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7C21-1631-4B96-8609-FD90C5DA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3477-7142-47BA-A0DB-AC5BC0CA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0CA-7EFB-4025-8661-0627E833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AD0-3F64-4A18-BEAC-3682F440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E19-A713-48BD-B1EF-2C468017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7E18-7C62-421A-96D3-4C2FB34C7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85800"/>
            <a:ext cx="5715000" cy="78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SOLAÇÃO E INTER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São acidentes provocados pela ação prolongada do calor sobre o organ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3300"/>
                </a:solidFill>
                <a:uFillTx/>
                <a:latin typeface="Times New Roman"/>
              </a:rPr>
              <a:t>INSOLAÇÃO</a:t>
            </a:r>
            <a:r>
              <a:rPr b="1" lang="pt-BR" sz="1800" spc="-1" strike="noStrike">
                <a:solidFill>
                  <a:srgbClr val="ff33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xposição excessiva aos raios sola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3300"/>
                </a:solidFill>
                <a:uFillTx/>
                <a:latin typeface="Times New Roman"/>
              </a:rPr>
              <a:t>INTERMAÇÃO</a:t>
            </a:r>
            <a:r>
              <a:rPr b="1" lang="pt-BR" sz="1800" spc="-1" strike="noStrike">
                <a:solidFill>
                  <a:srgbClr val="ff3300"/>
                </a:solidFill>
                <a:latin typeface="Times New Roman"/>
              </a:rPr>
              <a:t>: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ção do calor em ambientes pouco arejados, durante um trabalho muscular inten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ff"/>
                </a:solidFill>
                <a:uFillTx/>
                <a:latin typeface="Times New Roman"/>
              </a:rPr>
              <a:t>PRINCIPAIS AGENTES CAUSADORES</a:t>
            </a:r>
            <a:r>
              <a:rPr b="1" lang="pt-BR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Umidade: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Quanto maior a umidade relativa do ar , mais difícil será a evaporação cutânea, consequentemente, o corpo acumula maior quantidade de cal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Ventilação: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m circulação constante do ar o resfriamento torna-se difícil, provocando o aumento da temperatura corporal.  (Exemplos:  fornos, fundições, caldeiras, padaria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677880"/>
            <a:ext cx="5715000" cy="81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ondições físicas: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 excesso de trabalho aumenta a produção de calor pelo organismo, enquanto a fadiga muscular acumula subst6ancias tóxicas nos tecidos. A associação de ambas predispõe o organismo à falência hemodinâm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Alimentação excessiva: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 razão do processo de digestão ocorre um aumento da temperatura corpor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Vestuário: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s roupas escuras e a lã favorecem o acúmulo de calor, com conseqüente elevação da temperatura corpo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3300"/>
                </a:solidFill>
                <a:uFillTx/>
                <a:latin typeface="Times New Roman"/>
              </a:rPr>
              <a:t>SINAIS  E SINTOMAS</a:t>
            </a:r>
            <a:r>
              <a:rPr b="1" lang="pt-BR" sz="1800" spc="-1" strike="noStrike">
                <a:solidFill>
                  <a:srgbClr val="ff33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efalé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áuseas e tontu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Vômit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levação da temperatura corporal (42°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nsuficiência respiratór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iano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ele seca e quen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ma profu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601560"/>
            <a:ext cx="5486400" cy="34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ff"/>
                </a:solidFill>
                <a:uFillTx/>
                <a:latin typeface="Times New Roman"/>
              </a:rPr>
              <a:t>CONDUTA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evar a vítima para um local arejado e fresc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loca-la deitada com o tronco ligeiramente elevad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frouxar as roup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plicar compressas úmidas e frias sobre a cabeç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xigênio a 6 litros por minuto por catéter ou 10 litros por minuto com másca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ransportar para o hospi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1T23:49:23Z</dcterms:created>
  <dc:creator>Heloisa</dc:creator>
  <dc:description/>
  <dc:language>en-US</dc:language>
  <cp:lastModifiedBy>Heloisa</cp:lastModifiedBy>
  <dcterms:modified xsi:type="dcterms:W3CDTF">2000-05-11T23:50:49Z</dcterms:modified>
  <cp:revision>1</cp:revision>
  <dc:subject/>
  <dc:title>Slide sem título </dc:title>
</cp:coreProperties>
</file>