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52D-D538-4D14-9546-045FBF4C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692-158C-4A4E-82DB-D9E3052D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792-E059-479B-A4B9-88B07C55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EB5-EA90-4EE6-9F9A-617E34B3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FEE-5945-4FBC-A266-6014E1F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AC8-17DC-4B14-8DC6-E0A24A55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A67-0778-4D66-BD53-CC73E7FA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574-59A4-4EAE-A6C9-935BFE60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251-27FF-4EB5-9069-730BD19D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1F9-7C29-4B44-8C0B-4D06D365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88E-3E76-459C-AD3B-037BB4EE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E35-D1C3-44EE-9336-7ACAE5B4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721A-C8C4-4CBD-B2D5-E6F58906F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7467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66680"/>
            <a:ext cx="4267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86000"/>
            <a:ext cx="4876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3200400"/>
            <a:ext cx="4343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66680" y="2971800"/>
          <a:ext cx="457200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45720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33520" y="1066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TIPOS DE HEMATOMAS INTRACRA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7:38:55Z</dcterms:created>
  <dc:creator>Heloisa</dc:creator>
  <dc:description/>
  <dc:language>en-US</dc:language>
  <cp:lastModifiedBy>Heloisa</cp:lastModifiedBy>
  <dcterms:modified xsi:type="dcterms:W3CDTF">2000-08-30T17:39:54Z</dcterms:modified>
  <cp:revision>1</cp:revision>
  <dc:subject/>
  <dc:title>Slide sem título </dc:title>
</cp:coreProperties>
</file>