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434-1645-4655-822B-95BCED08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A9A-472D-4698-8862-5C3D97E5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316-FD37-40A4-8EE6-E492528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BA5-B4BB-4C5A-8D63-DB539C55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BA5-F7A4-4CD0-82E1-D3D7091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514-4093-47A2-A965-3A1FAD7D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0CE-9819-4E20-A67B-E7B9C30F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AA1-BD93-45D4-B26A-E4975D8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E1D-940C-4FBD-9926-C3491B2C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7BA-1214-4A85-970B-21261B72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92B-2FE0-4A0C-AD46-B8E888F6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DA5-EE09-43B5-AE88-54D11488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5E8-43AE-4477-AB17-AA5F5F2F0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7340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RAUMA DE COLUNA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84200"/>
            <a:ext cx="543384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Times New Roman"/>
              </a:rPr>
              <a:t>1. RE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Dor na coluna  com história de tra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erda de sensibilidade e / ou mobilidade nos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membr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Respiração abdo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riaprismo ( sem estímulo sexu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Sinal de lesão na face ou pescoç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olitraumatiz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erda de consciência secundária ao tra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Times New Roman"/>
              </a:rPr>
              <a:t>2. TRATAMENTO</a:t>
            </a:r>
            <a:r>
              <a:rPr b="0" lang="pt-BR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. Verificar VRC com controle da coluna cerv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. Imobilize com prancha longa rolando o paciente em bloco, ou então utilize maca tipo colher. Use colar cervical e apoio lateral de cabeça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. Use prancha curta ou Ked com prancha longa e colar cervical se o paciente apresentar sinais vitais em boas condiç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. Use somente prancha longa e colar cervical se o paciente está em choque, inconsciente ou outro problema gra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. Vire a prancha ou aspire em caso de vôm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. Monitore sinais vita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.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33cc"/>
                </a:solidFill>
                <a:uFillTx/>
                <a:latin typeface="Times New Roman"/>
              </a:rPr>
              <a:t>FERIMENTOS DE TECIDOS MO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2360" y="2665440"/>
            <a:ext cx="58132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lvl="2" marL="76032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>
              <a:lnSpc>
                <a:spcPct val="100000"/>
              </a:lnSpc>
              <a:buClr>
                <a:srgbClr val="00cc99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>
                <a:solidFill>
                  <a:srgbClr val="00cc99"/>
                </a:solidFill>
                <a:latin typeface="Times New Roman"/>
              </a:rPr>
              <a:t>CONDU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ponha a fer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Limpe ao redor do feri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Faça tamponamento com atadura   compressiva aproximando as bordas da  les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Mantenha a vítima em repo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33cc"/>
                </a:solidFill>
                <a:uFillTx/>
                <a:latin typeface="Times New Roman"/>
              </a:rPr>
              <a:t>FERIMENTOS NO OLH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2743200"/>
            <a:ext cx="5726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lvl="2" marL="76032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ff0000"/>
              </a:buClr>
              <a:buFont typeface="Lucida Casual"/>
              <a:buChar char=" 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</a:rPr>
              <a:t>CONDUT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ire corpo estranho apenas da conjuntiva ou esclerót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plique   atadura   oclusiva em  ambos os olhos  de  forma confortáve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tente recolocar globo ocular protuso no lug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33cc"/>
                </a:solidFill>
                <a:uFillTx/>
                <a:latin typeface="Times New Roman"/>
              </a:rPr>
              <a:t>FERIMENTOS NA CABEÇ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360" y="2666880"/>
            <a:ext cx="549756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lvl="2" marL="760320" algn="ctr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cc99"/>
              </a:buClr>
              <a:buFont typeface="Lucida Casual"/>
              <a:buChar char=" 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400" spc="-1" strike="noStrike">
                <a:solidFill>
                  <a:srgbClr val="00cc99"/>
                </a:solidFill>
                <a:latin typeface="Times New Roman"/>
              </a:rPr>
              <a:t>CONDU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aplique compress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>
              <a:lnSpc>
                <a:spcPct val="100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etue tamponamento se não observar fragmentos de ossos, afundamento ou exposição de tecido cereb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25000"/>
              </a:lnSpc>
              <a:buClr>
                <a:srgbClr val="000000"/>
              </a:buClr>
              <a:buFont typeface="Lucida Casual"/>
              <a:buChar char=" "/>
              <a:tabLst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pregue para tamponamento a bandagem triang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33cc"/>
                </a:solidFill>
                <a:uFillTx/>
                <a:latin typeface="Times New Roman"/>
              </a:rPr>
              <a:t>TRAUMA DE TÓRAX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219320"/>
            <a:ext cx="5726160" cy="68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Times New Roman"/>
              </a:rPr>
              <a:t>1.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. verifique V.R.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b. Oxigênio a 05 litros/min com catéter nasal ou 10 litros/min com máscar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c. Em ferimentos abertos no peit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Peça para a vítima expirar todo o ar e cubra com   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plástico estério ou papel laminado, preso em 03 lad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Se existir sinal de pneumotórax (veias do pescoço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istendidas, cianose, desvio de traquéia, ausência de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PA, dispnéia) remova o curativo deixando o ar escapar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 recoloque o curativo em seguid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. Instabilidade no peit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156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Use sua mão ou um travesseiro para pressionar a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área e permitir maior comodidade.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Pode ser usada uma compressa volumosa presa por esparadrapo na área da lesã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A pressão não deve causar do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Assista a respiraçã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. Não remova objetos empalados, estabilize-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f. Transport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FRA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2360" y="1922400"/>
            <a:ext cx="5683320" cy="63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ratura é a ruptura total ou parcial da estrutura óssea. Pode ser classificada em fechada ou exposta. Nas fraturas fechadas não há rompimento da pele e nas expostas sim. Isto é, o osso fraturado fica em contato com o meio externo (a rutura da pele muitas vezes é causada pelo próprio fragmento ósseo). Com esta exposição ao meio ambiente o osso fica em contato com bactérias, aumentando o risco de infec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geralmente a fratura de extremidades não causa risco imediato de vida, ela deve merecer atenção após a avaliação inicial e a correção dos problemas mais gr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 vítimas que aparentemente apresentam trauma isolado de extremidade deverão receber a mesma atenção inicial que um politraumatizado, isto é, avaliação inicial global e secundariamente o tratamento específico da fra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14440"/>
            <a:ext cx="5562720" cy="85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700" spc="-1" strike="noStrike" u="sng">
                <a:solidFill>
                  <a:srgbClr val="ff3300"/>
                </a:solidFill>
                <a:uFillTx/>
                <a:latin typeface="Times New Roman"/>
              </a:rPr>
              <a:t>DIAGNÓST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Para uma avaliação adequada é importante comparar o membro onde se suspeita haver fratura com o correspondente não comprometido. A seguir procure a presença d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Deformações (angulações, encurtamento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Inchaço, contusões, hematomas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Espasmo da musculatura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Feridas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760320" algn="just">
              <a:lnSpc>
                <a:spcPct val="100000"/>
              </a:lnSpc>
              <a:tabLst>
                <a:tab algn="l" pos="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Palidez ou cianose da extremidad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</a:rPr>
              <a:t>Verifique-se se há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-Dor    à    manipulação delicada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2-Crepitação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3-Enchimento capilar lento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4-Comprometimento da sensibilidad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5- Redução da temperatura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o membro  fraturad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814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Quando não encontramos perfuração da pele, a fratura é fechada, quando encontramos qualquer ferida perto do local ela é considerada aberta ou expos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valie a movimentação ativa: peça para o paciente mover a extremidade; com cuidado mobilize o membro delicadamente; não mova passivamente a extremidade que obviamente se encontra fraturada ou que o paciente se negue a mover espontaneament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lgumas fraturas da extremidade são consideradas de risco imediato de vida por causa de complicações associad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- Esmagamento com fratura e contaminação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    (terra,  graxa, ...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2- Fratura de fêmur bilatera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3- Fratura   próxima    ao    Joelho   ou cotovelo   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    resultam  em trauma vascular associado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4- Amputação traumática do braço ou pern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38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2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33"/>
                </a:solidFill>
                <a:uFillTx/>
                <a:latin typeface="Times New Roman"/>
              </a:rPr>
              <a:t>PROVIDÊ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014480"/>
            <a:ext cx="5616720" cy="77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pós o diagnóstico firmado da fratura, devemos tomar as seguintes providê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A - Nas fraturas fechadas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-  Alinhar o membro quando possív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algn="just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- Imobilizar   com   talas   ou   material   rígido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a imobilização deve atingir uma  articulação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ima e  outra abaixo da lesã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3- Usar macas para remo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B - Expos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1- Alinhar o membro quando possíve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- Curativo   com   gaze   ou  pano limpo no local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  romp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3- Colocar a tala para imobilização (uma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ticulação acima e abaix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4- Remover a vítima com ma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eralmente o sangramento diminui após a imobilização. Caso haja sangramento ativo proceder conforme capítulo de hemorrag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s fraturas com deformidade do joelho, cotovelo e tornozelo devemos proceder à imobilização sem tentar o alinhamento e transportar a vítima ao hospital imediatamente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FRATURA NO CRÂ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2360" y="2232000"/>
            <a:ext cx="574812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atidas na cabeça fazem suspeitar de uma condição neurológica de urgência. Geralmente são acompanhadas de sangramento no cérebro que, se não corrigido de imediato, pode causar a morte do paciente. Devemos, ao exame, observar se há contusões ou hematomas na calota craniana, que fazem suspeitar de trauma de cabeç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dem ser sinais presentes nos traumatismos de crânio a inconsciência, a hemorragia pelo nariz, boca ou ouvido. Podemos, também, ter alteração no ritmo respiratório ou até parada respiratória. Nestas condições, o patrulheiro deverá manter as condições vitais da vítima e transportá-la de imediato a um hosp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FRATURA DA CO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5551560" cy="59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odos os pacientes vítimas de traumas violentos, como já dissemos na avaliação inicial, deverão ser considerados como portadores de fratura de coluna até se provar o contrário. Tal afirmativa é particularmente importante para todos os doentes que estejam inconscientes. As fraturas de coluna mal conduzidas podem produzir lesões graves e irreversíveis da medula com comprometimento neurológico definitivo da região atingida. Todo o cuidado deverá ser tomado nestes pacientes para não produzirmos lesões adicionais à vítima. São sinais de suspeita de fratura de coluna a dor regional, a incapacidade de movimentar-se, sensação de formigamento dos membros, a perda da sensibilidade tátil nos braços e nas pernas. O transporte destes pacientes deverá ser feito sem mobilizar a coluna traumatizada e é por causa desta razão que nas manobras de respiração não devemos estender a cabeça da vít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FRATURA DE COST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2360" y="2895480"/>
            <a:ext cx="572616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ctr"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arcos  costais fraturados podem produzir lesão interna no parênuima pulmonar levando ao pneumotórax (ar dentro da caixa torácica mas fora dos pulmões) comprometendo desta forma a dinâmica respiratória. O paciente que apresenta respiração difícil e dores aos movimentos respiratórios é suspeito de ter fratura de costela. No local do acidente nada ou muito pouco podemos fazer por estes pacientes. Devemos, então, levá-los ao hosp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33cc"/>
                </a:solidFill>
                <a:uFillTx/>
                <a:latin typeface="Times New Roman"/>
              </a:rPr>
              <a:t>FRATURA DE BAC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2360" y="2819520"/>
            <a:ext cx="572616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8160" bIns="3816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 fraturas de bacia denotam gravidade do acidente. Neste tipo de fratura existe um sangramento interno importante e, também, nada podemos fazer no local do acidente no sentido de interrompe-lo. O paciente que apresenta dor na bacia, dificuldade de mobilizar-se e hematomas localizados é suspeito de fratura de bacia. O transporte do paciente deverá ser feito com os mesmos cuidados dos pacientes com fratura de colu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7:04:20Z</dcterms:created>
  <dc:creator>Heloisa</dc:creator>
  <dc:description/>
  <dc:language>en-US</dc:language>
  <cp:lastModifiedBy>Heloisa</cp:lastModifiedBy>
  <cp:lastPrinted>2000-05-11T01:15:51Z</cp:lastPrinted>
  <dcterms:modified xsi:type="dcterms:W3CDTF">2000-05-11T23:53:42Z</dcterms:modified>
  <cp:revision>24</cp:revision>
  <dc:subject/>
  <dc:title>CHOQUE</dc:title>
</cp:coreProperties>
</file>