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2460-A1B6-4EF6-98F1-7DC48692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F9FD-5EA2-44C2-B610-31B3F3A9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2EC2-254B-4957-8C03-4577BEE9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DF41-CF71-4EB6-B0C6-83C31066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DC11-7E10-4308-8329-F4F85C42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C02C-31E4-4259-8BCE-C97E2F1A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4E5F-B168-48EA-8EFE-46177E44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261D-DB33-4027-B9AD-9CFB22EF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8A19-6C6A-472F-B70A-C439583E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EC56-2648-4430-B461-03044F90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8753-2DF3-46D4-8DC3-E974C0F5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1DA6-40CA-4444-85EB-8FAAB27F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7033-640F-48C6-9656-9A1854DEF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066680"/>
            <a:ext cx="48006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828800" y="1371600"/>
          <a:ext cx="2752560" cy="18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371600"/>
                    <a:ext cx="275256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676520" y="4800600"/>
            <a:ext cx="3962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33720" y="4724280"/>
          <a:ext cx="2419200" cy="323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4724280"/>
                    <a:ext cx="241920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914400" y="685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MASSAGEM CARDÍACA EX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42670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LOCALIZAÇÃO DO CO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7:40:08Z</dcterms:created>
  <dc:creator>Heloisa</dc:creator>
  <dc:description/>
  <dc:language>en-US</dc:language>
  <cp:lastModifiedBy>Heloisa</cp:lastModifiedBy>
  <dcterms:modified xsi:type="dcterms:W3CDTF">2000-08-30T17:41:31Z</dcterms:modified>
  <cp:revision>1</cp:revision>
  <dc:subject/>
  <dc:title>Slide sem título </dc:title>
</cp:coreProperties>
</file>