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900C-9D2F-4A8A-9532-5F912B22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2D2B-C082-4F63-BB65-D708F826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D78-AA04-4921-A0BA-95B4F7C8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A155-8708-47AA-A912-A19EAFA7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FFDB-CCAA-41F6-B65B-219223EB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7620-443E-45D7-AAA0-01C486F1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9976-BF48-4331-950B-F471854A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B405-223B-425A-BBE0-B960E081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944-0400-473C-B710-17DF2413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A153-9810-4FB6-9C96-15D1AEA0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072-4BCD-4DEB-A153-1F4281A7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F9FB-8659-4DBF-B9F7-062540B8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05E3-1441-4AD7-AA13-F30BCCE49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4440" y="812880"/>
            <a:ext cx="569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RAUMATISMO CRÂNIO ENCEFÁLICO (TCE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14680"/>
            <a:ext cx="5747040" cy="64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t">
            <a:spAutoFit/>
          </a:bodyPr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1. RECONHEC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Pupilas desiguais(anisocori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Verifique a saída de líquido claro (liquor) pelo nariz e/ ou ouvi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Hematoma nas pálpebras (Sinal de Panda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Sinal de BATTLE (sinal característico atrás da orelha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Paralisia unilater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2. TRAT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. Verifique V.R.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b. Oxigênio a 05 litros/min. com catéter nasal ou a 10 litros/min com máscara se necessário. Se a assistência ventilatória necessária, utilize ambú e hiperventile a 15 litros/mi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. Imobiliz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. Cubra o ferimento com bandagem triangular ou atadura de crepom sem pressão se não houver fragmento ósseo, afundamento ou exposição de tecido cereb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. Utilize a escala de Coma de Glasg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.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47920" y="2590920"/>
          <a:ext cx="3876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590920"/>
                    <a:ext cx="3876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90720" y="11350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REGIÕES ANATÔMICAS DA CABE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1T23:52:50Z</dcterms:created>
  <dc:creator>Heloisa</dc:creator>
  <dc:description/>
  <dc:language>en-US</dc:language>
  <cp:lastModifiedBy>Prodemge</cp:lastModifiedBy>
  <dcterms:modified xsi:type="dcterms:W3CDTF">2001-11-23T14:37:34Z</dcterms:modified>
  <cp:revision>2</cp:revision>
  <dc:subject/>
  <dc:title>Slide sem título </dc:title>
</cp:coreProperties>
</file>