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0DC-4D8B-4369-BCED-698EDD4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3C7-E233-4745-92DA-58AADEFE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F9E-FEB0-4232-8558-850646F8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60A-B4E2-4E1E-808D-A022C23B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257-FC2F-423F-A1F5-105477E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C85-A249-4743-9119-B6AEFA6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16D-16CD-4C8B-BC81-59AE8C32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6C8-DCFE-4285-B2A0-88B0677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FE1-39AA-41C2-B712-D6009079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A5D-AB02-4024-A176-5785120A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0AD-BD36-40FE-9A20-1E8452C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0EF-079A-42F1-B5B5-42AE42A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23E-77BE-4FBD-8096-E9BB9FAF2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0587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587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87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RTO6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2620800" cy="179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4800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RTO7" descr=""/>
          <p:cNvPicPr/>
          <p:nvPr/>
        </p:nvPicPr>
        <p:blipFill>
          <a:blip r:embed="rId2"/>
          <a:stretch/>
        </p:blipFill>
        <p:spPr>
          <a:xfrm>
            <a:off x="2133720" y="3505320"/>
            <a:ext cx="2377800" cy="188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63928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ARTO9" descr=""/>
          <p:cNvPicPr/>
          <p:nvPr/>
        </p:nvPicPr>
        <p:blipFill>
          <a:blip r:embed="rId3"/>
          <a:stretch/>
        </p:blipFill>
        <p:spPr>
          <a:xfrm>
            <a:off x="2133720" y="6248520"/>
            <a:ext cx="2438280" cy="185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6015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ída da cabe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048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eração do cordão umbil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ro da cabeça e sucção de secre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8:18:56Z</dcterms:created>
  <dc:creator>Heloisa</dc:creator>
  <dc:description/>
  <dc:language>en-US</dc:language>
  <cp:lastModifiedBy>Heloisa</cp:lastModifiedBy>
  <dcterms:modified xsi:type="dcterms:W3CDTF">2000-08-30T18:20:02Z</dcterms:modified>
  <cp:revision>1</cp:revision>
  <dc:subject/>
  <dc:title>Slide sem título </dc:title>
</cp:coreProperties>
</file>