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8FE-8138-4B55-973D-F3E35FA2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C0F-6548-4E7D-B31F-21CD269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CBB-0EB6-49CF-8670-1F7B9441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062-F13F-42AA-BD40-E9B346D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DE9-EF4E-4886-82EF-09CC1F1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0C8-D85B-4596-BA77-711DFAB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B5F-851A-4A82-BE0A-D50BA9E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ED8-5623-4160-AC58-D8972073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31A-399E-4D25-B79A-0F7E392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D69-7B19-41FB-91D8-7A9C4E8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79E-2E40-4667-B7C3-9153801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593-38D9-4056-99CA-36D5790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500-1616-44F3-AC09-C3D155A6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3880"/>
            <a:ext cx="601992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ença caracterizada por resposta aumentada da traquéia e dos brônquios a diversos estímulos e que se manifesta por estreitamento generalizado das vias aéreas inferiores.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Sociedade Americana do Tórax - 19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ença inflamatória resultante do estreitamento das vias aéreas (Broncoconstrição), aumento de secreções e edema brônquico, que levam à obstrução do fluxo de ar, de caráter reversível, exceto na asma crônica, podendo colocar a vida em risco.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ceito Modern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57200"/>
            <a:ext cx="50292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Cond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irar a vítima d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inistrar oxigên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nsportar na posição sent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onitorar sinais vit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o de brônquio dilatad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caminhar ao hosp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Curio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É a doença crônica mais comum na infâ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ambulatórios de pediatria a asma é responsável por 5% das consul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urgências pediátricas representa 16% dos atendimen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4ª causa de internações no Brasil e a 1ª na faixa  etária de 20 a 29 an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ifesta-se a partir do primeiro ano de vida e atinge o máximo entre 7 a  9 anos, depois declin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os 30 anos de idade 70% dos pacientes estão livres dos sinto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14400"/>
            <a:ext cx="548640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Sinais e Sin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nsie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ficuldade expiratória (dispnéic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efere ficar sentado para melhorar sua ventilação alveolar pelo uso dos músculos acessórios da respi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ianose pode ou não estar pres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aquicardia freqü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ipertensão sistól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Jugulares ingurgitadas à expi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sse pode ocorrer com expecto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dorese fria (face, tronco e extremidad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i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perto no pei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g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3:45:48Z</dcterms:created>
  <dc:creator>Heloisa</dc:creator>
  <dc:description/>
  <dc:language>en-US</dc:language>
  <cp:lastModifiedBy>Heloisa</cp:lastModifiedBy>
  <dcterms:modified xsi:type="dcterms:W3CDTF">2000-05-11T23:47:28Z</dcterms:modified>
  <cp:revision>1</cp:revision>
  <dc:subject/>
  <dc:title>Slide sem título </dc:title>
</cp:coreProperties>
</file>