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17B-4349-4988-9DC9-DC4138AD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715-31D0-4501-98D3-F04F57FB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E8D-15DC-4F07-A970-3BD2F5AD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6DD-3E44-462F-8C8C-63C336F2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4DB-AC68-4CA2-81E5-DBD2DDE4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951-A902-479B-9228-CE212E0A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0F8-6BCD-45D9-977A-1C10F91F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D74-6C8F-4829-86CE-604883D8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F82-FF91-4609-9695-C440DFE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E21-56B9-4A2B-AF2C-F595815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DE2-F298-447F-B3EC-79158FF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70C-B7E8-4E0B-896D-978A5A3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9865-F8CA-4D5B-9C4E-05C3674A7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838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presentação cefálica -  “  Coroamento 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ARTO1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2530440" cy="253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4343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RTO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4114800" cy="3416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39625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ção de expulsão no part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8:14:25Z</dcterms:created>
  <dc:creator>Heloisa</dc:creator>
  <dc:description/>
  <dc:language>en-US</dc:language>
  <cp:lastModifiedBy>Heloisa</cp:lastModifiedBy>
  <dcterms:modified xsi:type="dcterms:W3CDTF">2000-08-30T18:15:15Z</dcterms:modified>
  <cp:revision>1</cp:revision>
  <dc:subject/>
  <dc:title>Slide sem título </dc:title>
</cp:coreProperties>
</file>