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67EE-871F-488A-88D5-B894B5047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0CB7-9511-4CCF-A3C9-D82EAB5C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6E46-D88E-481F-B08B-59E456294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CD7B-8CD6-474A-8EEE-F477DE05A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53F2-1120-45A6-9369-343CFF1F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24CB-FAF8-4E3A-A1BF-5DAC1832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132B-E7F8-49B6-B5C3-DD7018AD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EA0C-CF24-4623-950A-8AF12E50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1CCF-20D9-4FF4-B45B-44C8185A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6D97-C02A-42B0-A216-AA255DB6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3CCD-1953-426C-A2F5-E3496654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BFFE-A99C-4D77-A8BF-4AC0CC88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AABA-7AE5-4099-9F93-D7C5D751E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4440" y="711360"/>
            <a:ext cx="582912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COMA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U  ALTERAÇÃO DO NÍVEL 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 CONSCIÊNCIA)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2971800"/>
            <a:ext cx="5771880" cy="49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3300"/>
                </a:solidFill>
                <a:uFillTx/>
                <a:latin typeface="Times New Roman"/>
              </a:rPr>
              <a:t>Observe</a:t>
            </a:r>
            <a:r>
              <a:rPr b="1" lang="pt-BR" sz="2400" spc="-1" strike="noStrike" u="sng">
                <a:solidFill>
                  <a:srgbClr val="00cc99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 Dor de cabeça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 Paralisia unilateral (Hemipleg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 Pupilas desiguais (anisocor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 Convuls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 Náuseas e vômi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 uso de álcool ou drog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Times New Roman"/>
              </a:rPr>
              <a:t>1. Trat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. Verifique VRC.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. Oxigênio a 05 litros/min com catéter nasal ou 10 litros com máscar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. Posicione a vítima sobre a prancha longa e instale o colar cervic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. Transp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1T23:40:09Z</dcterms:created>
  <dc:creator>Heloisa</dc:creator>
  <dc:description/>
  <dc:language>en-US</dc:language>
  <cp:lastModifiedBy>Heloisa</cp:lastModifiedBy>
  <dcterms:modified xsi:type="dcterms:W3CDTF">2000-05-11T23:40:48Z</dcterms:modified>
  <cp:revision>1</cp:revision>
  <dc:subject/>
  <dc:title>Slide sem título </dc:title>
</cp:coreProperties>
</file>