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0E1-AA52-48E9-BAF4-5D539928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734-D5B7-4DA5-9E71-75118ECD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A92-74B5-4DA7-90F4-64D40797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B2D-1A5A-48E9-B16C-1BB36831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1F4-EBC7-4F63-B529-32CDA2C7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058-8D3E-4D6E-8523-5AB730EC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9B5-D1C8-4911-B7F2-2174AC26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D69-C6BB-4F2F-903F-E3ADF94B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C1F-F549-4E1F-B30C-D5283323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50C-6CB9-404E-BD16-739E589A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637-5508-44D7-A194-0DEDFE4F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3B3-EA1C-4046-A8B7-235A0C4E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C1C7-E490-499B-8237-3D6A6B64D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0156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533520"/>
            <a:ext cx="58291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HEMORRA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219320"/>
            <a:ext cx="5715000" cy="84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nce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 hemorragia é definida como uma perda aguda de sangue circulante. Normalmente o volume de sangue corresponde a 7% do peso corporal no adulto. Por exemplo, um homem de 70 Kg tem aproximadamente 5 litros de sangue. Na criança o volume é 8 a 9% do peso corpo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Times New Roman"/>
              </a:rPr>
              <a:t>Classif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Times New Roman"/>
              </a:rPr>
              <a:t>1. Quanto ao 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 Hemorragia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 Hemorragia ex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Times New Roman"/>
              </a:rPr>
              <a:t>2. Quanto ao me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morragia  ar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 Hemorragia ven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400" spc="-1" strike="noStrike">
                <a:solidFill>
                  <a:srgbClr val="339933"/>
                </a:solidFill>
                <a:latin typeface="Times New Roman"/>
              </a:rPr>
              <a:t>HEMORRAGI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 hemorragia interna o sangue perdido não é visível e pode ser devido a lesões traumáticas de vísceras internas ou grandes va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982800"/>
            <a:ext cx="5105160" cy="71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Suspeitar quando exi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cidente por desaceler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erimento por projétil de arma de fogo, faca ou estilete, principalmente no tórax e abdo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Diagnós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ulso rápido e frac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alidez da pele e mucos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udorese profund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le f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Seqüência no atendi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itar a víti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 não houver contra-indicação, elevar os membros inferio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erificar V.R.C.N. (vias aéreas, respiração, circulação, sistema nervos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1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nsportar a vítima ao hos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87520" y="1054080"/>
            <a:ext cx="5736960" cy="65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400" spc="-1" strike="noStrike">
                <a:solidFill>
                  <a:srgbClr val="339933"/>
                </a:solidFill>
                <a:latin typeface="Times New Roman"/>
              </a:rPr>
              <a:t>HEMORRAGI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pt-BR" sz="1800" spc="-1" strike="noStrike">
                <a:solidFill>
                  <a:srgbClr val="003399"/>
                </a:solidFill>
                <a:latin typeface="Times New Roman"/>
              </a:rPr>
              <a:t>HEMORRAGIA EXTERN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visível ao exame primário do paciente, deve ser prontamente controlada pela pressão direta sobre o local do sangramento.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Times New Roman"/>
              </a:rPr>
              <a:t>Reconhecimento quanto ao me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 Hemorragia Ar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angue vivo, rotulante e pequenos j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Hemorragia Ven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angue escuro e com escorr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066680"/>
            <a:ext cx="541008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Times New Roman"/>
              </a:rPr>
              <a:t>Seqüência no Atendi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5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itar a víti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5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brir o ferimento com gaze ou pano limp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5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essionar o local com firmez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5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 o ferimento for nos membros, elevar o membro ferido, caso seja possív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5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aso não haja controle, pressionar diretamente as artérias que nutrem o membro afetado (axilar no MS ou femural no M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5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 casos de amputação traumática  não cessando o quadro hemorrágico após as manobras precedentes, aplicar garroteamento nos pontos de bloqueio próximos ao ponto de amput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5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ter monitoramento dos sinais vit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25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nsportar a vítima para o hos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219320"/>
            <a:ext cx="487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762120"/>
            <a:ext cx="525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4267080"/>
          <a:ext cx="5257800" cy="23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267080"/>
                    <a:ext cx="525780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762120" y="1066680"/>
            <a:ext cx="56386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EMORRAGIA EX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ARTERIAL E VENO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990720"/>
            <a:ext cx="5410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057400" y="2133720"/>
          <a:ext cx="266076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133720"/>
                    <a:ext cx="26607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762120" y="8380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RINCIPAIS ARTÉRIAS E VE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2096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É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914400"/>
            <a:ext cx="525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990720"/>
            <a:ext cx="4952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057400" y="1523880"/>
          <a:ext cx="3141720" cy="632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314172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752480" y="8380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23:29:20Z</dcterms:created>
  <dc:creator>Heloisa</dc:creator>
  <dc:description/>
  <dc:language>en-US</dc:language>
  <cp:lastModifiedBy>Heloisa</cp:lastModifiedBy>
  <dcterms:modified xsi:type="dcterms:W3CDTF">2000-05-11T23:35:34Z</dcterms:modified>
  <cp:revision>1</cp:revision>
  <dc:subject/>
  <dc:title>Slide sem título </dc:title>
</cp:coreProperties>
</file>