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A9B-4B32-4136-8413-B0CA9265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D26-2105-44A8-A616-4BACD79F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899-F7B4-4CA6-85A9-C24F025F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505-73AC-4384-95E8-0201FF1A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0B9-CB8A-4887-B34A-FFB332F2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689-C026-47A2-B636-1922B975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AED-068F-4827-AB3A-E586DB90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FE6-053B-49DB-ADF2-46781892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B77-E3D5-46AF-B9AF-8B25713B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7B5-1718-45AF-B858-63066A50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5FB-9133-409B-BEB8-B9C13451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685-E67A-46B4-B784-CAAEFE97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971-FCE9-44DB-81BB-965065E01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09480"/>
            <a:ext cx="5886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CHO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335240"/>
            <a:ext cx="5486400" cy="73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1. RECONHECIMENTO</a:t>
            </a: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ele fria e úmid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ulso rápido e fraco (mais de 100 bp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Alteração do nível de consciê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erfusão capilar lenta ou inexistent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Usualmente PA sistólica menor que 90 mm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Hg.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2. TRATAMENT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. Verifique VR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. Oxigênio a 05 litros/min. com catéter nasal ou 10 litros.min. com máscara.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. Controle hemorrag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. Posicione a vítima deitada em prancha longa e eleve a parte dos pés (30 cm), se não houver um TCE. Caso haja,   mantenha   a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posição horizontal.   Em pacientes com choque cardiogênico ou com lesões na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cabeça coloque a vítima semi sen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. Aqueça a vítima com manta aluminizada e ou cobert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. Imobilize fraturas (se existir) e a víti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. Transporte sem dem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3:52:03Z</dcterms:created>
  <dc:creator>Heloisa</dc:creator>
  <dc:description/>
  <dc:language>en-US</dc:language>
  <cp:lastModifiedBy>Heloisa</cp:lastModifiedBy>
  <dcterms:modified xsi:type="dcterms:W3CDTF">2000-05-11T23:52:39Z</dcterms:modified>
  <cp:revision>1</cp:revision>
  <dc:subject/>
  <dc:title>Slide sem título </dc:title>
</cp:coreProperties>
</file>