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4FE-8E1A-4F7F-AEDE-923CAC9E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5A8-FB4F-4E17-9A4E-7533F210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503-76BB-486D-892E-583FC675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A59-F14C-40E3-A52C-FE379D1F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F7C-FC8A-4017-B6FA-133597E2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C5F-4141-434F-AAD9-2A1DD276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757-5FC8-43DF-AE1F-84B08EF5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0E9-2748-41A6-ACC1-C5F428DB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693-8B86-4239-90AD-D9388D37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485-6209-476C-A4B3-90136ED4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F44-5DA3-4D55-B309-6625BF4C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CA1-A37D-420E-8354-D51AD913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80D0-5368-4F16-A0B0-967F44EAF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440" y="566640"/>
            <a:ext cx="5829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EDEMA AGUDO DE PULM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63800"/>
            <a:ext cx="6019920" cy="72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33"/>
                </a:solidFill>
                <a:latin typeface="Times New Roman"/>
              </a:rPr>
              <a:t>1. </a:t>
            </a:r>
            <a:r>
              <a:rPr b="1" lang="pt-BR" sz="2000" spc="-1" strike="noStrike" u="sng">
                <a:solidFill>
                  <a:srgbClr val="990033"/>
                </a:solidFill>
                <a:uFillTx/>
                <a:latin typeface="Times New Roman"/>
              </a:rPr>
              <a:t>CONCE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índrome decorrente de uma insuficiência cardíaca (IC), provocando o enchimento dos pulmões por líquido. 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ausas mais comu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suficiência cardíaca esquerda ou doença valvular mitral com conseqüente grande aumento da pressão capilar pulmonar e inundação dos espaços intertici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esão da membrana pulmonar causada por infecções como pneumonia, inalação de substancias nocivas (gás clorídrico, dióxido de enxofre, etc.), com conseqüente extravasamento das proteínas plasmáticas e de líquido dos capila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 edema pulmonar agudo pode ser letal em horas e até mesmo em 20 a 30 minutos, se a pressão capilar se elevar até 25 a 30 mmHg acima do nível de seguranç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601560"/>
            <a:ext cx="5639040" cy="74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33"/>
                </a:solidFill>
                <a:latin typeface="Times New Roman"/>
              </a:rPr>
              <a:t>2. </a:t>
            </a:r>
            <a:r>
              <a:rPr b="1" lang="pt-BR" sz="2000" spc="-1" strike="noStrike" u="sng">
                <a:solidFill>
                  <a:srgbClr val="990033"/>
                </a:solidFill>
                <a:uFillTx/>
                <a:latin typeface="Times New Roman"/>
              </a:rPr>
              <a:t>Sintomat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it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iano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alide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creção pulmonar abunda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aquicard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spiração dificultad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dema  de  membros e vasos do pescoç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ugulares ingurgitad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33"/>
                </a:solidFill>
                <a:latin typeface="Times New Roman"/>
              </a:rPr>
              <a:t>3. </a:t>
            </a:r>
            <a:r>
              <a:rPr b="1" lang="pt-BR" sz="2000" spc="-1" strike="noStrike" u="sng">
                <a:solidFill>
                  <a:srgbClr val="990033"/>
                </a:solidFill>
                <a:uFillTx/>
                <a:latin typeface="Times New Roman"/>
              </a:rPr>
              <a:t>Cond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ransportar a vítima  na  posição semi senta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onitorar sinais vita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ceder garrote em três membros, fazendo rodízio entre eles, com intervalos de 10 minutos, se for o cas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duzir ao hospital com urgê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0666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DIABETE2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3363840" cy="5853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9907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RÍTIMOS CARDÍA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28954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quicardia Ventr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41911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brilação Ventr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486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isto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6705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adicar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7:15:13Z</dcterms:created>
  <dc:creator>Heloisa</dc:creator>
  <dc:description/>
  <dc:language>en-US</dc:language>
  <cp:lastModifiedBy>Heloisa</cp:lastModifiedBy>
  <dcterms:modified xsi:type="dcterms:W3CDTF">2000-08-30T17:18:59Z</dcterms:modified>
  <cp:revision>1</cp:revision>
  <dc:subject/>
  <dc:title>Slide sem título </dc:title>
</cp:coreProperties>
</file>