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106-F961-4310-A026-FF5F1862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5A5-07EA-4C03-A7FC-96049BC8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C71-F877-4106-A026-CEAB3A09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F0D-8E00-47B1-B9B0-3758DED3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3F8-EBB6-4DD7-B2BE-A65DA1AC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D34-5A73-46CD-8CBF-FB34A6DB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684-27AA-4F14-BB56-F6C0D4F4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3EE-AC73-4794-87A7-925977CF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AED8-DA04-47A9-A187-70AED731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86A-D0DB-4B5B-AC6C-C9D7CF85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0221-7B07-41C4-B13D-B04FECA7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CEE-5425-4F24-9D0E-FC02DA3C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78A0-C7C7-4FD5-8EEF-F71715699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762120"/>
            <a:ext cx="586764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ff"/>
                </a:solidFill>
                <a:uFillTx/>
                <a:latin typeface="Times New Roman"/>
              </a:rPr>
              <a:t>COMPLICAÇÕES NO PARTO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ituações que podem ocorr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presentação de nádega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presentação do cordão umbilic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presentação de perna, braço, pé ou m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aída de líquido esverde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3300"/>
                </a:solidFill>
                <a:uFillTx/>
                <a:latin typeface="Times New Roman"/>
              </a:rPr>
              <a:t>PROCEDIMENTO</a:t>
            </a: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erificar sinais vitais da gestan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xigênio a 6 litros por minuto com catéter ou 10 litros por minuto com másca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leve o quadril da gestante em decúbito ventr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ransporte imediatamente para o hospi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ARTO" descr=""/>
          <p:cNvPicPr/>
          <p:nvPr/>
        </p:nvPicPr>
        <p:blipFill>
          <a:blip r:embed="rId1"/>
          <a:stretch/>
        </p:blipFill>
        <p:spPr>
          <a:xfrm>
            <a:off x="914400" y="6324480"/>
            <a:ext cx="5183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8:12:37Z</dcterms:created>
  <dc:creator>Heloisa</dc:creator>
  <dc:description/>
  <dc:language>en-US</dc:language>
  <cp:lastModifiedBy>Heloisa</cp:lastModifiedBy>
  <dcterms:modified xsi:type="dcterms:W3CDTF">2000-08-30T18:14:03Z</dcterms:modified>
  <cp:revision>1</cp:revision>
  <dc:subject/>
  <dc:title>Slide sem título </dc:title>
</cp:coreProperties>
</file>