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6CB-0FB7-41A5-AF65-2229DDEA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88B-A62C-456B-AD81-A895896D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8FE-55D3-4241-8A9D-CE4D174D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9C8-E390-4EFB-9580-44B1BC85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BCD-42CC-4F13-989D-05067B5C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99A-5C8A-4C5F-8339-E1D8FCB0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05C-076A-47F4-B587-CAD520FB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0EC-3811-46EB-B3E2-CA99DEC6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AC4-ED03-4FED-B0B8-51601841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D3D-75A3-428A-A162-3C4B587A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A4A-6273-4F70-88E2-46FBAC9D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1D8-5DBB-4EB6-9094-8CBD76DB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1B45-3CD5-4907-B928-EF1176778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440" y="812880"/>
            <a:ext cx="5829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ESMAIO (SÍNCOPE)</a:t>
            </a:r>
            <a:br>
              <a:rPr sz="32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Perda curta de consciênc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6019920" cy="60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33"/>
                </a:solidFill>
                <a:latin typeface="Times New Roman"/>
              </a:rPr>
              <a:t>1. Re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 Perda de consci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Times New Roman"/>
              </a:rPr>
              <a:t>2. Tra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valiar estado de consciência da vítima por perguntas simples (você está bem?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valiar adequação da ventilação da víti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sobstruir vias aéreas (se atentar para a presença de vômitos, dentes, próteses, sangue ou outras secreçõ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rmitir ventilação adequada pelas várias manob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- tripla manobra das vias aé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- ventilação com máscara / amb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380880"/>
            <a:ext cx="518184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dministrar oxigênio suplementar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- cateter n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- máscara fa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- ventilação com máscara / ambú com oxigênio enriquec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squisar a presença de pulso em grandes artérias (carótida ou femurai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ulso ausente - iniciar manobras de ressucitação cardio pulm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ulso ausente - continu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dir a pressão arterial sistêmica do paci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bservar a presença de paralisias, ou movimentos anormais tipo convulsiv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nsportar o paciente para hospital conforme orientação do médico control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4864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desmaio" descr=""/>
          <p:cNvPicPr/>
          <p:nvPr/>
        </p:nvPicPr>
        <p:blipFill>
          <a:blip r:embed="rId1"/>
          <a:stretch/>
        </p:blipFill>
        <p:spPr>
          <a:xfrm>
            <a:off x="1981080" y="5473800"/>
            <a:ext cx="32767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23:42:16Z</dcterms:created>
  <dc:creator>Heloisa</dc:creator>
  <dc:description/>
  <dc:language>en-US</dc:language>
  <cp:lastModifiedBy>Heloisa</cp:lastModifiedBy>
  <dcterms:modified xsi:type="dcterms:W3CDTF">2000-05-11T23:43:09Z</dcterms:modified>
  <cp:revision>1</cp:revision>
  <dc:subject/>
  <dc:title>Slide sem título </dc:title>
</cp:coreProperties>
</file>