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E47-FF36-4205-8143-0FDC68AA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BAB-1108-4EB8-A312-E168635A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C03-912E-4CAA-AFD4-30F5552B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159-C579-4972-BE1B-A7197A6C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1F6-EF06-47AD-9E10-68E07A5C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056-21C4-47EE-8D39-417E3B00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254-4A74-4678-9CA3-3774761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4A8-C692-4E8D-B301-B3266E8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A2D-41DB-4BF7-89EB-C88D36C2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D2E-7524-4C17-98C4-BAA617C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DA2-E53F-4E47-B1F3-D6A59D2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5C8-094F-4C63-9E89-34410E5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DD9-A702-4E6F-A901-B2B1C2E67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12880"/>
            <a:ext cx="5829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VUL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680" y="2235240"/>
            <a:ext cx="577188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1. Tratament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Verifique V.R.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Use um protetor contra mordidas. Ele deve ser de fácil colocação (nunca force). Não use colheres, dedo ou objetos du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Oxigênio a 05 litros/min. com catéter nasal, durante as convulsões. A aspiração de secreções se faz necessá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Monitore pulso e P.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Imobilize colu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posição lateral(coma) sobre a prancha, se não há suspeita de trau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Proteja o paciente de lesões durante as convuls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Inicie o transpor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85800"/>
            <a:ext cx="582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VUL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6019920" cy="76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1. Reconhec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aciente comatoso não respondendo ao comando verb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ovimentos anorm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- Fase Tônic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- extensão de musculatura corporal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rigid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dentes cer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- Fase Clônic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- espasmos suces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saliv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erda do controle dos esfínct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-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ase Pós-Convulsiv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- sonol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onfusão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2. Curio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É a forma mais freqüente de manifestação epilép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PELEPSIA (grego) = “ Tomar de surpresa 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omete 0,5% da população em geral em alguma fase d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sulta de uma atividade elétrica anormal das células cerebr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39:08Z</dcterms:created>
  <dc:creator>Heloisa</dc:creator>
  <dc:description/>
  <dc:language>en-US</dc:language>
  <cp:lastModifiedBy>Heloisa</cp:lastModifiedBy>
  <dcterms:modified xsi:type="dcterms:W3CDTF">2000-05-11T23:44:39Z</dcterms:modified>
  <cp:revision>2</cp:revision>
  <dc:subject/>
  <dc:title>Slide sem título </dc:title>
</cp:coreProperties>
</file>