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D2F-DB94-49E9-B08C-462133B7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3F7-1F62-45CB-AC26-5375524D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CC5-FAD9-4182-B56B-1ED38CA7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A1F-C0C0-485E-8F9A-0570448D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882-BF7B-415F-976F-1852DD2B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781-523D-47EC-A955-9610385A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D7DF-6826-42E9-AF75-EB722DA2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FFD-84CE-4497-A2EB-4A80980D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DC7-2AB4-472D-A7C4-0DD08ACD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0CF-DCA4-4248-9DFB-37E3D027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BDB-5B57-4735-BF23-603C8779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A66-6D24-4AFD-A433-6AEB55F3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62B4-A59F-4196-AD99-544F4A4C5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440" y="812880"/>
            <a:ext cx="58291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A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057400"/>
            <a:ext cx="601992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3300"/>
                </a:solidFill>
                <a:uFillTx/>
                <a:latin typeface="Times New Roman"/>
              </a:rPr>
              <a:t>RECONHECIMENTO</a:t>
            </a:r>
            <a:r>
              <a:rPr b="1" lang="pt-BR" sz="1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tração uterina de forte intensidade e freqüentes (cerca de uma  a cada 1 a 3 minuto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nrijecimento da musculatura abdominal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isualização da cabeça do bebê no canal de par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creção vaginal sanguinolen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rda de líquido em grande quantidade (ruptura da bolsa das água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nsação intensa de evacu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A GESTAÇÃO MULTÍPARA, COM VÁRIOS PARTOS NORMAIS O PROCESSO DE EXPULSÃO É MAIS RÁP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14400"/>
            <a:ext cx="5639040" cy="78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ff"/>
                </a:solidFill>
                <a:uFillTx/>
                <a:latin typeface="Times New Roman"/>
              </a:rPr>
              <a:t>PROCEDIMENTOS GERAIS</a:t>
            </a:r>
            <a:r>
              <a:rPr b="1" lang="pt-BR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itar a paciente, tranquilizando-a e colocando-a em posição para o par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m expor a parturiente, livrá-la de todas as vestes que possam impedir o canal de par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ão permitir, retardar ou acelerar o processo de nasci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ão permita que a parturiente vá ao banheiro, se o parto é imin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 marido, pai ou outro parente próximo, deverá acompanhar durante todo o tempo a parturi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 o parto for iminente solicite autorização do marido ou da parturiente antes de decidir assistí-la na própria residência, caso não dê tempo para transportá-la ao hospit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ão permita a presença de curiosos e seja o mais  discreto possív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bserve o estado geral da parturiente, verificando se não apresenta indícios de algum distúrbio grav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Times New Roman"/>
              </a:rPr>
              <a:t>Isto é válido em apresentação cefálica. Caso contrário transportá-la  para o hospital imediat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685800"/>
            <a:ext cx="5562360" cy="75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Times New Roman"/>
              </a:rPr>
              <a:t>PROCEDIMENTOS  DO PARTO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cione a parturiente deitada de costas, na posição ginecológica e faça assepsia da área genital com água e sab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bra a gestante com lençóis limpos e cubra com um pano limpo o ânus, evitando a contaminação com material fe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ve  cuidadosamente as suas mãos e calce as luv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tilize o kit de parto da viatura. Caso contrário esterilize uma tesoura e dois pedaços de cord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ente a parturiente para respirar pela boca e fazer força durante a contração, descansando no período de relaxa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ante a expulsão, apoie com  a mão a cabeça do bebê, evitando que ele saia com violência, nunca tente puxar a cabeça da criança para apressar o par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ifique se o cordão envolve o pescoço do bebê, retirando-o com o de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ois de sair totalmente a cabeça da criança faça um pequeno movimento de giro, e, então, saíram o ombro e o restante do corpo. Nunca puxe a criança nem o cordão umbilical. Deixe que a mãe expulse naturalmente o bebê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838080"/>
            <a:ext cx="5639040" cy="71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gure firmemente o bebê, apoiando seu corpo para evitar que ele ca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e as vias aéreas do bebê com um pano limpo e certifique-se de que começou a respirar. Se a criança não  respirar, segure-a com a cabeça para baixo presa pelas pernas com cuidado para que não escorregue. Dê alguns tapinhas nas costas para estimular a respiração. Desta forma, todo o líquido que estiver impedindo a respiração sairá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 o bebê não respira,  promova manobras de reanim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nvolva o bebê em um pano limpo, colocando-o sobre o ventre da mã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 o transporte para o hospital demorar mais que 30 minutos, quando o cordão umbilical parar de pulsar faça as  duas amarrações e corte entre elas. A primeira amarração ou clampeamento deverá ser feita aproximadamente  a 4  dedos  do umbigo  da  criança ( 20 cm) e o segundo  a 10 cm do primeiro. O corte entre as amarrações deverá ser feito com objeto de corte esteriliza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onitorar os sinais vitais do bebê, mantendo-o  aquec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914400"/>
            <a:ext cx="5562360" cy="75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ff"/>
                </a:solidFill>
                <a:uFillTx/>
                <a:latin typeface="Times New Roman"/>
              </a:rPr>
              <a:t>PROCEDIMENTO APÓS O PA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pós a saída da placenta, verifique se saiu inteira e acondicione num saco plástico, conduzindo-a para o hospit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trole a hemorragia da parturiente com absorvente higiênico ou lençol  limpo colocado sobre a vulv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ntenha suas pernas unidas e elevad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aça massagens externas no úter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ê líquidos para a mãe be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ntenha-a em repouso absolu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inistre oxigênio a 6 litros por minuto com catéter nasal  ou 10 litros por minuto com másca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ntenha a mãe e o bebê aquecidos, monitorando sinais vit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ransporte para o hospital a mãe, o bebê e a plac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Observ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3300"/>
                </a:solidFill>
                <a:latin typeface="Times New Roman"/>
              </a:rPr>
              <a:t>Se a placenta não sair após o desprendimento do bebê, não aguarde, transporte para o hos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8:09:56Z</dcterms:created>
  <dc:creator>Heloisa</dc:creator>
  <dc:description/>
  <dc:language>en-US</dc:language>
  <cp:lastModifiedBy>Heloisa</cp:lastModifiedBy>
  <dcterms:modified xsi:type="dcterms:W3CDTF">2000-08-30T18:12:30Z</dcterms:modified>
  <cp:revision>1</cp:revision>
  <dc:subject/>
  <dc:title>Slide sem título </dc:title>
</cp:coreProperties>
</file>