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1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9"/>
          </p:nvPr>
        </p:nvSpPr>
        <p:spPr>
          <a:xfrm>
            <a:off x="42800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1"/>
          </p:nvPr>
        </p:nvSpPr>
        <p:spPr>
          <a:xfrm>
            <a:off x="42800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42B9E-39EA-44C6-89A7-015960C12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4000" y="801720"/>
            <a:ext cx="56516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54000" y="801720"/>
            <a:ext cx="56516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54000" y="801720"/>
            <a:ext cx="56498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54000" y="801720"/>
            <a:ext cx="56516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54000" y="801720"/>
            <a:ext cx="56516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247760" y="808200"/>
            <a:ext cx="5067360" cy="39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038240" y="5078520"/>
            <a:ext cx="548496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portunity cost approaches $35,000 t0 $5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tivation and maturity at the graduate level is more lik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621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2621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A3704-D318-45CC-A378-68A52E5A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58370-1A58-49F5-B54C-197D1BB33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C3BC-D8E1-43A0-AE11-6833FFB28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76E5-97DD-4478-A62A-BB93DD950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119A-D3C1-4E21-88DF-4B2BA3A8D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27CC-BF1F-48C8-821E-AF766AA5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58A-7E57-40C1-AF38-6A6A265F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1DC-2863-475C-8C34-EC8E30BE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D95-0D9E-4F83-A1F4-908BD47E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951-F722-4302-A9AB-F02961E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899-2216-4FD9-8418-035B1EC2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280800"/>
            <a:ext cx="90694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FAA-5D13-4602-80BB-CAB4AA7D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E4D-47E7-4452-917D-1C5C6F5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7FB7-BDCB-4DC6-B45F-9F37BB725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71A-70E8-416F-BA52-1FF1B7B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D86-14DA-45EC-8EFD-CAFB5E8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810-5D37-4BD5-83FE-B493348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042-8F74-4716-AD0E-4B45299C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85D-856D-4EF3-AFB8-54EFF8F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F7CA-8F9D-4FD8-ACDD-C1753AD7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0CE3-B1FC-483C-9B1A-909B919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4F7-B051-43C6-9913-D4EB4CC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CF9C-1EAD-4F34-AAB2-1B98E524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7E9-66BC-4DEB-AD33-BECCA27F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A5A5-5323-4E90-9317-DB51390D4D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280800"/>
            <a:ext cx="90694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2BCF-98A6-4B19-884A-DA88E5F9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2F9-D8D8-419A-A62D-7457604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042-F3D3-4626-A430-129E0D0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C51E-E756-4303-BCC2-6328B44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4B00-5B3F-421C-95F0-9AF6971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9525-E9A9-4801-B318-CF87756C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327F-33DB-4268-AADE-ABF57B03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203E-66F7-48E4-B6A7-05A8F25C0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8536-5A33-4389-A3E9-16F0CD3BB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280800"/>
            <a:ext cx="90694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A9A4-2B8B-4D5D-AA34-90BC8C591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1F75-5780-40F6-B410-9F2EAE131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766E-1D50-4789-AB6F-8D7B968C5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D38B-5EFB-4268-89ED-A21ACB657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48080" y="6886440"/>
            <a:ext cx="3192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74238-2377-4F4A-B63B-CAE114FB6E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6804000" y="6888240"/>
            <a:ext cx="2782800" cy="5572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84480" y="1427040"/>
            <a:ext cx="72244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6972480"/>
            <a:ext cx="36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wilkins@accessscien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419040" y="6883560"/>
            <a:ext cx="920880" cy="52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CA4260F-0647-4C31-AE0D-0562FC57D2B6}" type="slidenum">
              <a:rPr b="1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9236160" cy="15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2320" y="2184120"/>
            <a:ext cx="85629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7810200" y="7054560"/>
            <a:ext cx="209700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DejaVu Sans Condense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446280" y="6886440"/>
            <a:ext cx="3192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media/r/O_buraco_no_muro.mp4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iniweb.com.br/index.html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dicas-l.com.br/segredosdogoogle" TargetMode="External"/><Relationship Id="rId2" Type="http://schemas.openxmlformats.org/officeDocument/2006/relationships/hyperlink" Target="http://www.edulinks.com.br/" TargetMode="External"/><Relationship Id="rId3" Type="http://schemas.openxmlformats.org/officeDocument/2006/relationships/hyperlink" Target="http://www.wikinomics.com/" TargetMode="External"/><Relationship Id="rId4" Type="http://schemas.openxmlformats.org/officeDocument/2006/relationships/hyperlink" Target="http://pt.wikipedia.org/wiki/Wikinomics" TargetMode="External"/><Relationship Id="rId5" Type="http://schemas.openxmlformats.org/officeDocument/2006/relationships/hyperlink" Target="http://www.oreilly.com/openbook/freedom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edia/r/Presos.na.escada.rolante.mp4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6120" y="1260360"/>
            <a:ext cx="872460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Trebuchet MS"/>
              </a:rPr>
              <a:t>O Ensino </a:t>
            </a:r>
            <a:br>
              <a:rPr sz="6000"/>
            </a:br>
            <a:r>
              <a:rPr b="1" lang="en-GB" sz="6000" spc="-1" strike="noStrike">
                <a:solidFill>
                  <a:srgbClr val="ff0000"/>
                </a:solidFill>
                <a:latin typeface="Trebuchet MS"/>
              </a:rPr>
              <a:t>Aprendizagem</a:t>
            </a:r>
            <a:br>
              <a:rPr sz="6000"/>
            </a:br>
            <a:r>
              <a:rPr b="1" lang="en-GB" sz="6000" spc="-1" strike="noStrike">
                <a:solidFill>
                  <a:srgbClr val="ff0000"/>
                </a:solidFill>
                <a:latin typeface="Trebuchet MS"/>
              </a:rPr>
              <a:t>em Tempos</a:t>
            </a:r>
            <a:br>
              <a:rPr sz="6000"/>
            </a:br>
            <a:r>
              <a:rPr b="1" lang="en-GB" sz="6000" spc="-1" strike="noStrike">
                <a:solidFill>
                  <a:srgbClr val="ff0000"/>
                </a:solidFill>
                <a:latin typeface="Trebuchet MS"/>
              </a:rPr>
              <a:t>de 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2320" y="4680000"/>
            <a:ext cx="45673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Rubens Queiroz de Almeida</a:t>
            </a:r>
            <a:br>
              <a:rPr sz="2600"/>
            </a:br>
            <a:r>
              <a:rPr b="1" lang="en-GB" sz="2600" spc="-1" strike="noStrike">
                <a:solidFill>
                  <a:srgbClr val="0000ff"/>
                </a:solidFill>
                <a:latin typeface="Arial"/>
              </a:rPr>
              <a:t>queiroz@ccuec.unicamp.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80000" y="1440000"/>
            <a:ext cx="3240360" cy="324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92360" y="6300720"/>
            <a:ext cx="5506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94006b"/>
                </a:solidFill>
                <a:latin typeface="Trebuchet MS"/>
              </a:rPr>
              <a:t>Download desta apresentação</a:t>
            </a:r>
            <a:br>
              <a:rPr sz="2600"/>
            </a:br>
            <a:r>
              <a:rPr b="1" lang="en-GB" sz="2600" spc="-1" strike="noStrike">
                <a:solidFill>
                  <a:srgbClr val="94006b"/>
                </a:solidFill>
                <a:latin typeface="Trebuchet MS"/>
              </a:rPr>
              <a:t>http://www.Dicas-L.com.br/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0720" y="914400"/>
            <a:ext cx="4319640" cy="5746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113440" y="176004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5400" spc="-1" strike="noStrike">
                <a:solidFill>
                  <a:srgbClr val="ffffff"/>
                </a:solidFill>
                <a:latin typeface="Trebuchet MS"/>
              </a:rPr>
              <a:t>Dê um pouco, pegue muito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lvl="1" marL="863640" indent="0" algn="ctr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rebuchet MS"/>
              </a:rPr>
              <a:t>Lema da comunidade de código aberto (Businessweek, 31 de janeiro de 2005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3600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O Software Livre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79640" y="1768320"/>
            <a:ext cx="504036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1560" indent="-31752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 liberdade para executar o programa, para qualquer propósito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21560" indent="-31752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 liberdade de estudar como o programa funciona, e adaptá-lo para as suas necessidades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21560" indent="-31752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 liberdade de redistribuir cópias de modo que você possa ajudar ao seu próximo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21560" indent="-31752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 liberdade de aperfeiçoar o programa, e liberar os seus aperfeiçoamentos, de modo que toda a comunidade se benefici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3600360" cy="3535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0360" y="5952960"/>
            <a:ext cx="404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guns mascotes e símbolos d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ftware livre GNU, FreeBSD daemon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Tux, do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713268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7020000"/>
            <a:ext cx="1879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nte: 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9680" y="334800"/>
            <a:ext cx="9332640" cy="68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Trebuchet MS"/>
              </a:rPr>
              <a:t>“</a:t>
            </a:r>
            <a:r>
              <a:rPr b="1" i="1" lang="en-GB" sz="5400" spc="-1" strike="noStrike">
                <a:solidFill>
                  <a:srgbClr val="ffff00"/>
                </a:solidFill>
                <a:latin typeface="Trebuchet MS"/>
              </a:rPr>
              <a:t>Nunca duvide de que um pequeno grupo de pessoas comprometidas possa mudar o mundo.”</a:t>
            </a:r>
            <a:r>
              <a:rPr b="1" i="1" lang="en-GB" sz="3600" spc="-1" strike="noStrike">
                <a:solidFill>
                  <a:srgbClr val="ffff00"/>
                </a:solidFill>
                <a:latin typeface="Trebuchet MS"/>
              </a:rPr>
              <a:t>  </a:t>
            </a:r>
            <a:br>
              <a:rPr sz="3600"/>
            </a:br>
            <a:r>
              <a:rPr b="1" i="1" lang="en-GB" sz="3600" spc="-1" strike="noStrike">
                <a:solidFill>
                  <a:srgbClr val="23ff23"/>
                </a:solidFill>
                <a:latin typeface="Trebuchet MS"/>
              </a:rPr>
              <a:t>Margaret Mead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3280" y="345960"/>
            <a:ext cx="907236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Wiki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1768320"/>
            <a:ext cx="50781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220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... 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a humanidade está entrando num segundo estágio da Revolução da Informação, que vai mudar para sempre o conceito de uma economia - e até mesmo de uma sociedade - hierarquizada e há séculos montada sobre estruturas de poder. Estas começam a decair por causa das velocidades cada vez maiores de conexão da internet, </a:t>
            </a:r>
            <a:r>
              <a:rPr b="1" lang="en-GB" sz="2200" spc="-1" strike="noStrike">
                <a:solidFill>
                  <a:srgbClr val="ff0000"/>
                </a:solidFill>
                <a:latin typeface="Trebuchet MS"/>
              </a:rPr>
              <a:t>que dão mais poder às pessoas comuns e lhes permitem interferir nos processos de produção de conhecimento e no próprio consu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4319640" cy="4319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6280200"/>
            <a:ext cx="3114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431640" indent="-32220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Lucida Sans Unicode"/>
              </a:rPr>
              <a:t>Don Tapscott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Lucida Sans Unicode"/>
              </a:rPr>
              <a:t>Anthony D. Willi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Rob McEwen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4319640" cy="51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19280" y="176004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Reestruturou a empresa GoldCorp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Utilizou táticas do código aberto e concorrência online para salvar sua empresa e inovar em um mercado ultrapassado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Valor subiu de 50 milhões para 13 bilhões de dólar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Geek Squad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5040360" cy="3873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11960" y="158868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Empresa criada por Robert Stephens, em 1994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ultura interna voltada para o compartilhamento e colaboração, com muita liberdade de ação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368360"/>
            <a:ext cx="3600360" cy="2697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332000" y="4373640"/>
            <a:ext cx="3600360" cy="239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92360" y="503280"/>
            <a:ext cx="4716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rebuchet MS"/>
              </a:rPr>
              <a:t>Um buraco no m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111640" y="4373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111640" y="1368360"/>
            <a:ext cx="360072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9680" y="1063800"/>
            <a:ext cx="9332640" cy="52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“</a:t>
            </a: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Em algum lugar em sua organização, grupos de pessoas já estão fazendo as coisas de maneira diferente e melhor. Para criar mudanças duradouras, identifique as áreas positivas de desvio e alimente as chamas.”</a:t>
            </a:r>
            <a:br>
              <a:rPr sz="4400"/>
            </a:br>
            <a:r>
              <a:rPr b="1" i="1" lang="en-GB" sz="2400" spc="-1" strike="noStrike">
                <a:solidFill>
                  <a:srgbClr val="23ff23"/>
                </a:solidFill>
                <a:latin typeface="Trebuchet MS"/>
              </a:rPr>
              <a:t>Richard Tanner Pascale &amp; Jerry Sternin, “Your Company’s Secret Change Agents,” HBR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9072360" cy="63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rebuchet MS"/>
              </a:rPr>
              <a:t>Quase 1 bilhão de pessoas online no mundo todo – com seu conhecimento compartilhado, contatos sociais, poder computacional – estão se tornando rapidamente uma força de um poder nunca visto. Pela primeira vez na história da humanidade, a cooperação em massa ao longo do tempo e do espaço se tornou subitamente viável. </a:t>
            </a:r>
            <a:br>
              <a:rPr sz="4000"/>
            </a:br>
            <a:r>
              <a:rPr b="1" i="1" lang="en-GB" sz="2600" spc="-1" strike="noStrike">
                <a:solidFill>
                  <a:srgbClr val="ffffff"/>
                </a:solidFill>
                <a:latin typeface="Trebuchet MS"/>
              </a:rPr>
              <a:t>Business Week, 20 de maio de 2005</a:t>
            </a:r>
            <a:endParaRPr b="1" lang="en-US" sz="2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rebuchet MS"/>
              </a:rPr>
              <a:t>A detenção do conhecimento significou no passado o sucesso (carreira e trabalho). Hoje é o inverso – o compartilhamento agrega valores - e todos crescem junto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e6ff00"/>
                </a:solidFill>
                <a:latin typeface="Trebuchet MS"/>
              </a:rPr>
              <a:t>Renata Almeida Fonsec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9DD6-33B3-41DD-A11C-6EE178E60A49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90240"/>
            <a:ext cx="907236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19280" y="179280"/>
            <a:ext cx="52754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Trebuchet MS"/>
              </a:rPr>
              <a:t>http://www.rau-tu.unicamp.br/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0000" y="6119640"/>
            <a:ext cx="4278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rebuchet MS"/>
              </a:rPr>
              <a:t>http://libdigi.unicamp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253800"/>
            <a:ext cx="9072360" cy="13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O Futuro da Educação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Em um mundo ideal, nós teremos acesso constante a todo o conhecimento existente ... salas de aula se formarão espontâneamente em tempo real no ciberespaço, com pessoas entrando e saindo constantemente ... nós poderemos aprender ou frequentar aulas com quem quisermos, sempre que quisermos ... nós teremos feedback de especialistas virtuais que nos observarão e nos ensinarão ... e finalmente, aprenderemos em nossos sonhos.”</a:t>
            </a:r>
            <a:br>
              <a:rPr sz="3200"/>
            </a:br>
            <a:r>
              <a:rPr b="0" i="1" lang="en-GB" sz="3200" spc="-1" strike="noStrike">
                <a:solidFill>
                  <a:srgbClr val="23ff23"/>
                </a:solidFill>
                <a:latin typeface="Trebuchet MS"/>
              </a:rPr>
              <a:t>John Seely Brow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7C9A-648C-41B7-8FAE-5B3169438A3C}" type="slidenum">
              <a:t>22</a:t>
            </a:fld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73200" y="2603520"/>
            <a:ext cx="904716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O futuro da educação est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fora do campus tradicional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fora da sala de aula tradicional”</a:t>
            </a: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4800" spc="-1" strike="noStrike">
                <a:solidFill>
                  <a:srgbClr val="ffffff"/>
                </a:solidFill>
                <a:latin typeface="Trebuchet MS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800" spc="-1" strike="noStrike">
                <a:solidFill>
                  <a:srgbClr val="23ff23"/>
                </a:solidFill>
                <a:latin typeface="Trebuchet MS"/>
              </a:rPr>
              <a:t>Peter Druc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27320" y="457200"/>
            <a:ext cx="707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780000" y="1292400"/>
            <a:ext cx="6119640" cy="4647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60360" y="1185840"/>
            <a:ext cx="334656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1584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Trebuchet MS"/>
              </a:rPr>
              <a:t>A Internet possui o potencial para ser a primeira grande mudança no processo educacional desde Sócrates”</a:t>
            </a:r>
            <a:br>
              <a:rPr sz="2400"/>
            </a:br>
            <a:r>
              <a:rPr b="0" i="1" lang="en-GB" sz="4000" spc="-1" strike="noStrike">
                <a:solidFill>
                  <a:srgbClr val="23ff23"/>
                </a:solidFill>
                <a:latin typeface="Trebuchet MS"/>
              </a:rPr>
              <a:t>Gary Becker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4C9E-D60E-43BA-B0B2-796EC0B1F716}" type="slidenum">
              <a:t>24</a:t>
            </a:fld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Imigrantes e Nativos Digitais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344600"/>
            <a:ext cx="44276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7240" indent="-314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rebuchet MS"/>
              </a:rPr>
              <a:t>Um nativo digital é uma pessoa que cresceu com a tecnologia digital (computadores, a Internet, telefones celulares, MP3)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17240" indent="-314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rebuchet MS"/>
              </a:rPr>
              <a:t>Um imigrante digital é uma pessoa que cresceu sem a tecnologia digital e a adotou mais tard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17240" indent="-314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rebuchet MS"/>
              </a:rPr>
              <a:t>e habitam no mesmo lugar ... dois universos .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759280" y="2016000"/>
            <a:ext cx="32403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76240" y="1079640"/>
            <a:ext cx="83757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... agora nós temos uma geração que aborve informação melhor e que toma decisões mais rapidamente, são multitarefa e processam informações em paralelo; uma geração que pensa graficamente ao invés de textualmente, assume a conectividade e está acostumada a ver o mundo através das lentes dos jogos e da diversã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" y="5865840"/>
            <a:ext cx="9720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23ff23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23ff23"/>
                </a:solidFill>
                <a:latin typeface="Arial"/>
                <a:ea typeface="Arial"/>
              </a:rPr>
              <a:t>Use Their Tools! Speak Their Language!” Marc Prensky, March 2004  </a:t>
            </a:r>
            <a:r>
              <a:rPr b="0" lang="en-GB" sz="1800" spc="-1" strike="noStrike">
                <a:solidFill>
                  <a:srgbClr val="23ff23"/>
                </a:solidFill>
                <a:latin typeface="Arial"/>
                <a:ea typeface="Arial"/>
              </a:rPr>
              <a:t>http://www.marcprensky.com/writing/Prensky-Use_Their_Tools_Speak_Their_Languag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49400" y="657360"/>
            <a:ext cx="759132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GB" sz="2800" spc="-1" strike="noStrike">
                <a:solidFill>
                  <a:srgbClr val="ffffff"/>
                </a:solidFill>
                <a:latin typeface="Trebuchet MS"/>
              </a:rPr>
              <a:t>Nós nunca compreenderemos a tecnologia precisamente da mesma forma que os nativos digitais compreend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rebuchet MS"/>
              </a:rPr>
              <a:t>Esta distinção é crítica na educação, porque nós estamos em uma época em que todos os nossos alunos são nativos digitais, ao passo que nossos educadores, professores, administradores e planejadores curriculares são imigrantes digitai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0360" y="5711760"/>
            <a:ext cx="972036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3ff23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23ff23"/>
                </a:solidFill>
                <a:latin typeface="Arial"/>
                <a:ea typeface="Arial"/>
              </a:rPr>
              <a:t>Use Their Tools! Speak Their Language!” Marc Prensky, March 200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  <a:ea typeface="Arial"/>
              </a:rPr>
              <a:t>http://www.marcprensky.com/writing/Prensky-Use_Their_Tools_Speak_Their_Languag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47640" y="2120400"/>
            <a:ext cx="9072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A desconexão entre a forma como os estudantes aprendem e a forma como os professores ensinam é fácil de compreender quando consideramos que o sistema escolar atual foi projetado para um mundo agrário e de manufatura. Entretanto, o mundo mudou e continua a mudar rapidamente. Os alunos multitarefa de hoje estão melhor equipados para esta mudança do que muitos adultos ...”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2732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23ff23"/>
                </a:solidFill>
                <a:latin typeface="Trebuchet MS"/>
              </a:rPr>
              <a:t>Ian Jukes and Anita Dosaj, The InfoSavvy Group, February 2003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177840"/>
            <a:ext cx="90727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Estudantes Digitais/Imigrantes Digitai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44276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receber informação rapidamente, de múltiplas font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processamente paralelo e multi-taref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trabalhar com imagens, som e vídeo, ao invés de text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acesso randomico a informação multimedia hiperligada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interagir simultaneamente com muito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aprender na hora (just in time)</a:t>
            </a: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gratificação e recompensas instantâne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Preferem aprender coisas que são relevantes, instantâneamente úteis e divertid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0" algn="ct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600" y="1409400"/>
            <a:ext cx="4427280" cy="52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a oferta de informação lenta e controlada, de fontes limitad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processamento linear e tarefas únicas ou limitad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oferecer texto ao invés de figuras, som e video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oferecer informação de forma linear, lógica e sequencia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que os estudantes trabalhem independemente ao invés de interagir em red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ensinar “se for o caso” (pode cair na prova)</a:t>
            </a: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adiar a gratificação e as recompensa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ferem ensinar o que está no currículo e testes padronizado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574560" y="6840360"/>
            <a:ext cx="9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1" marL="431640" indent="-32220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23ff23"/>
                </a:solidFill>
                <a:latin typeface="Arial"/>
                <a:ea typeface="Lucida Sans Unicode"/>
              </a:rPr>
              <a:t>Fonte: http://www.apple.com/au/education/digitalkids/disconnect/landscap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1F2E-93AC-4B70-BB8B-F4356FA20014}" type="slidenum">
              <a:t>3</a:t>
            </a:fld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10080720" cy="7553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63640" y="6615000"/>
            <a:ext cx="6480360" cy="72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Não, não baixamos você da Internet.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Você nasc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O Choque do Futuro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ivro escrito em 1970, por Alvin Toffl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Mensagem principal do livro:</a:t>
            </a:r>
            <a:br>
              <a:rPr sz="3200"/>
            </a:br>
            <a:r>
              <a:rPr b="0" i="1" lang="en-GB" sz="3200" spc="-1" strike="noStrike">
                <a:solidFill>
                  <a:srgbClr val="ffff00"/>
                </a:solidFill>
                <a:latin typeface="Trebuchet MS"/>
              </a:rPr>
              <a:t>“Muita mudança, em muito pouco tempo”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3600720" cy="48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Choque do Futuro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ffffff"/>
                </a:solidFill>
                <a:latin typeface="Trebuchet MS"/>
              </a:rPr>
              <a:t>Choque do futuro é o estresse e desorientação esmagadoras que nós induzimos nas pessoas expondo-as a muita mudança em um tempo muito curto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23ff23"/>
                </a:solidFill>
                <a:latin typeface="Trebuchet MS"/>
              </a:rPr>
              <a:t>A tecnologia se alimenta dela mesma. A tecnologia torna mais tecnologia possível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rebuchet MS"/>
              </a:rPr>
              <a:t>Alvin Toffler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Os Analfabetos do Séc. XXI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Os analfabetos do século 21 não serão aqueles que não conseguem ler e escrever, mas aqueles que não conseguem aprender, desaprender e reaprender.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23ff23"/>
                </a:solidFill>
                <a:latin typeface="Trebuchet MS"/>
              </a:rPr>
              <a:t>Alvin Toffl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014560" y="1763280"/>
            <a:ext cx="78120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ff00"/>
                </a:solidFill>
                <a:latin typeface="Trebuchet MS"/>
              </a:rPr>
              <a:t>A pergunta é ...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omo nós podemos fazer com que nossos cérebros pensem de forma diferente sobre o mundo e resistimos à tentação de pegar em armas e lutar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ffff00"/>
                </a:solidFill>
                <a:latin typeface="Trebuchet MS"/>
              </a:rPr>
              <a:t>Wikinomics</a:t>
            </a:r>
            <a:r>
              <a:rPr b="0" lang="en-GB" sz="2200" spc="-1" strike="noStrike">
                <a:solidFill>
                  <a:srgbClr val="ffff00"/>
                </a:solidFill>
                <a:latin typeface="Trebuchet MS"/>
              </a:rPr>
              <a:t>, Tapscott and William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76480" y="899640"/>
            <a:ext cx="764352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ff00"/>
                </a:solidFill>
                <a:latin typeface="Trebuchet MS"/>
              </a:rPr>
              <a:t>Aviso</a:t>
            </a: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 algn="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Quando a mudança no exterior ultrapassa a mudança no interior ... o fim está chegando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164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Jack Welc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68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	</a:t>
            </a:r>
            <a:br>
              <a:rPr sz="4400"/>
            </a:br>
            <a:r>
              <a:rPr b="1" lang="en-GB" sz="4000" spc="-1" strike="noStrike">
                <a:solidFill>
                  <a:srgbClr val="ffff00"/>
                </a:solidFill>
                <a:latin typeface="Trebuchet MS"/>
              </a:rPr>
              <a:t>Second Life e Web 2.0 na Educação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Guia indispensável para recursos da Internet para educação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Autoria de Carlos Valente e João Matta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Sumário e capítulo de amostra para download gratuito no site da Editora Novatec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119640" y="1738440"/>
            <a:ext cx="2521080" cy="3660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00000" y="5992920"/>
            <a:ext cx="788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novatec.com.br/livros/secondlife_ed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Referências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1800000"/>
            <a:ext cx="9072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Google </a:t>
            </a:r>
            <a:r>
              <a:rPr b="0" lang="en-GB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istas Eletrônicas EAD-L e EAD-Links</a:t>
            </a:r>
            <a:br>
              <a:rPr sz="3200"/>
            </a:br>
            <a:r>
              <a:rPr b="0" lang="en-GB" sz="2200" spc="-1" strike="noStrike">
                <a:solidFill>
                  <a:srgbClr val="ffff00"/>
                </a:solidFill>
                <a:latin typeface="Trebuchet MS"/>
              </a:rPr>
              <a:t>http://www.ccuec.unicamp.br/ead/index_html?foco=HTML/75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Digital Natives, Digital Immigrant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Marc Prensk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Digital Tools for Digital Students</a:t>
            </a:r>
            <a:br>
              <a:rPr sz="3200"/>
            </a:br>
            <a:r>
              <a:rPr b="0" i="1" lang="en-GB" sz="2800" spc="-1" strike="noStrike">
                <a:solidFill>
                  <a:srgbClr val="ffff00"/>
                </a:solidFill>
                <a:latin typeface="Trebuchet MS"/>
              </a:rPr>
              <a:t>http://www.apple.com/au/education/digitalkids/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Mini Web Educação</a:t>
            </a:r>
            <a:br>
              <a:rPr sz="32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www.miniweb.com.br/index.htm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Referências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907272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Os Segredos do Google</a:t>
            </a:r>
            <a:br>
              <a:rPr sz="2600"/>
            </a:br>
            <a:r>
              <a:rPr b="0" lang="en-GB" sz="26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http://www.dicas-l.com.br/segredosdogoog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EduLinks</a:t>
            </a:r>
            <a:br>
              <a:rPr sz="2600"/>
            </a:br>
            <a:r>
              <a:rPr b="0" lang="en-GB" sz="26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edulinks.com.b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Wikinomics</a:t>
            </a:r>
            <a:br>
              <a:rPr sz="2600"/>
            </a:br>
            <a:r>
              <a:rPr b="0" lang="en-GB" sz="26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wikinomics.com/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Wikipedia: Definição de Wikinomics</a:t>
            </a:r>
            <a:br>
              <a:rPr sz="2600"/>
            </a:br>
            <a:r>
              <a:rPr b="0" lang="en-GB" sz="26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://pt.wikipedia.org/wiki/Wikinomic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Free as in Freedom</a:t>
            </a:r>
            <a:br>
              <a:rPr sz="2600"/>
            </a:br>
            <a:r>
              <a:rPr b="0" lang="en-GB" sz="26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http://www.oreilly.com/openbook/freedom/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412920" indent="-31104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Só por Prazer – Linux, os bastidores de sua criação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rebuchet MS"/>
              </a:rPr>
              <a:t>Presos na escada rolante ...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00" y="1440000"/>
            <a:ext cx="719928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5EA0-A417-4863-8A59-FA36E63F39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940360" y="4876920"/>
            <a:ext cx="2421000" cy="882360"/>
            <a:chOff x="5940360" y="4876920"/>
            <a:chExt cx="2421000" cy="882360"/>
          </a:xfrm>
        </p:grpSpPr>
        <p:sp>
          <p:nvSpPr>
            <p:cNvPr id="142" name=""/>
            <p:cNvSpPr/>
            <p:nvPr/>
          </p:nvSpPr>
          <p:spPr>
            <a:xfrm>
              <a:off x="6593760" y="4876920"/>
              <a:ext cx="1201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File 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940360" y="5138640"/>
              <a:ext cx="24210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619280" y="1979640"/>
            <a:ext cx="2727360" cy="833400"/>
            <a:chOff x="1619280" y="1979640"/>
            <a:chExt cx="2727360" cy="83340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619280" y="2228760"/>
              <a:ext cx="272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258280" y="1979640"/>
              <a:ext cx="1558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ocial Networ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00000" y="3897360"/>
            <a:ext cx="2316240" cy="961920"/>
            <a:chOff x="900000" y="3897360"/>
            <a:chExt cx="2316240" cy="96192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900000" y="4152960"/>
              <a:ext cx="23162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56360" y="3897360"/>
              <a:ext cx="775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419640" y="3052800"/>
            <a:ext cx="2349360" cy="906480"/>
            <a:chOff x="3419640" y="3052800"/>
            <a:chExt cx="2349360" cy="90648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3419640" y="3324240"/>
              <a:ext cx="23493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40160" y="3052800"/>
              <a:ext cx="54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19640" y="3960720"/>
            <a:ext cx="2333520" cy="897120"/>
            <a:chOff x="3419640" y="3960720"/>
            <a:chExt cx="2333520" cy="897120"/>
          </a:xfrm>
        </p:grpSpPr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3419640" y="4211640"/>
              <a:ext cx="23335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982320" y="3960720"/>
              <a:ext cx="1288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Ope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940360" y="3060720"/>
            <a:ext cx="2440080" cy="868320"/>
            <a:chOff x="5940360" y="3060720"/>
            <a:chExt cx="2440080" cy="868320"/>
          </a:xfrm>
        </p:grpSpPr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5940360" y="3300480"/>
              <a:ext cx="2440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23080" y="3060720"/>
              <a:ext cx="674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80000" y="1941480"/>
            <a:ext cx="2354040" cy="936720"/>
            <a:chOff x="4680000" y="1941480"/>
            <a:chExt cx="2354040" cy="936720"/>
          </a:xfrm>
        </p:grpSpPr>
        <p:sp>
          <p:nvSpPr>
            <p:cNvPr id="160" name=""/>
            <p:cNvSpPr/>
            <p:nvPr/>
          </p:nvSpPr>
          <p:spPr>
            <a:xfrm>
              <a:off x="4901400" y="1941480"/>
              <a:ext cx="1896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ser Review Port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4680000" y="2195640"/>
              <a:ext cx="235404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419640" y="4986360"/>
            <a:ext cx="2322360" cy="772920"/>
            <a:chOff x="3419640" y="4986360"/>
            <a:chExt cx="2322360" cy="772920"/>
          </a:xfrm>
        </p:grpSpPr>
        <p:pic>
          <p:nvPicPr>
            <p:cNvPr id="163" name="" descr=""/>
            <p:cNvPicPr/>
            <p:nvPr/>
          </p:nvPicPr>
          <p:blipFill>
            <a:blip r:embed="rId8"/>
            <a:stretch/>
          </p:blipFill>
          <p:spPr>
            <a:xfrm>
              <a:off x="3419640" y="5238720"/>
              <a:ext cx="232236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003560" y="4986360"/>
              <a:ext cx="1200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eComme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940360" y="4083120"/>
            <a:ext cx="2476440" cy="776160"/>
            <a:chOff x="5940360" y="4083120"/>
            <a:chExt cx="2476440" cy="776160"/>
          </a:xfrm>
        </p:grpSpPr>
        <p:pic>
          <p:nvPicPr>
            <p:cNvPr id="166" name="" descr=""/>
            <p:cNvPicPr/>
            <p:nvPr/>
          </p:nvPicPr>
          <p:blipFill>
            <a:blip r:embed="rId9"/>
            <a:stretch/>
          </p:blipFill>
          <p:spPr>
            <a:xfrm>
              <a:off x="5940360" y="4335480"/>
              <a:ext cx="24764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26120" y="4083120"/>
              <a:ext cx="2087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parison Shopp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079640" y="4970520"/>
            <a:ext cx="2133360" cy="788760"/>
            <a:chOff x="1079640" y="4970520"/>
            <a:chExt cx="2133360" cy="788760"/>
          </a:xfrm>
        </p:grpSpPr>
        <p:sp>
          <p:nvSpPr>
            <p:cNvPr id="169" name=""/>
            <p:cNvSpPr/>
            <p:nvPr/>
          </p:nvSpPr>
          <p:spPr>
            <a:xfrm>
              <a:off x="1669320" y="4970520"/>
              <a:ext cx="971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odca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1079640" y="5234040"/>
              <a:ext cx="213336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900000" y="3060720"/>
            <a:ext cx="2343240" cy="847800"/>
            <a:chOff x="900000" y="3060720"/>
            <a:chExt cx="2343240" cy="847800"/>
          </a:xfrm>
        </p:grpSpPr>
        <p:pic>
          <p:nvPicPr>
            <p:cNvPr id="172" name="" descr=""/>
            <p:cNvPicPr/>
            <p:nvPr/>
          </p:nvPicPr>
          <p:blipFill>
            <a:blip r:embed="rId11"/>
            <a:stretch/>
          </p:blipFill>
          <p:spPr>
            <a:xfrm>
              <a:off x="900000" y="3316320"/>
              <a:ext cx="23432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092600" y="3060720"/>
              <a:ext cx="1945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Wikis / Collab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40000" y="5780160"/>
            <a:ext cx="2266920" cy="879480"/>
            <a:chOff x="3240000" y="5780160"/>
            <a:chExt cx="2266920" cy="879480"/>
          </a:xfrm>
        </p:grpSpPr>
        <p:sp>
          <p:nvSpPr>
            <p:cNvPr id="175" name=""/>
            <p:cNvSpPr/>
            <p:nvPr/>
          </p:nvSpPr>
          <p:spPr>
            <a:xfrm>
              <a:off x="3917520" y="5780160"/>
              <a:ext cx="871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agg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>
              <a:off x="3240000" y="6049800"/>
              <a:ext cx="2266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390600" y="6796080"/>
            <a:ext cx="2681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rebuchet MS"/>
              </a:rPr>
              <a:t>Fonte: Forrester Research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Para começar ...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3CC5-ECD3-4352-A07F-32CFA880158A}" type="slidenum">
              <a:t>5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68000" y="1220760"/>
            <a:ext cx="9072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4200" algn="ctr">
              <a:lnSpc>
                <a:spcPct val="97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0" spc="-1" strike="noStrike">
                <a:solidFill>
                  <a:srgbClr val="23ff23"/>
                </a:solidFill>
                <a:latin typeface="Trebuchet MS"/>
                <a:ea typeface="Lucida Sans Unicode"/>
              </a:rPr>
              <a:t>Colaboração</a:t>
            </a:r>
            <a:br>
              <a:rPr sz="8000"/>
            </a:br>
            <a:r>
              <a:rPr b="0" i="1" lang="en-GB" sz="8000" spc="-1" strike="noStrike">
                <a:solidFill>
                  <a:srgbClr val="23ff23"/>
                </a:solidFill>
                <a:latin typeface="Trebuchet MS"/>
                <a:ea typeface="Lucida Sans Unicode"/>
              </a:rPr>
              <a:t>e</a:t>
            </a:r>
            <a:br>
              <a:rPr sz="8000"/>
            </a:br>
            <a:r>
              <a:rPr b="0" i="1" lang="en-GB" sz="8000" spc="-1" strike="noStrike">
                <a:solidFill>
                  <a:srgbClr val="23ff23"/>
                </a:solidFill>
                <a:latin typeface="Trebuchet MS"/>
                <a:ea typeface="Lucida Sans Unicode"/>
              </a:rPr>
              <a:t>Compartilh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9547-611F-4D29-AF13-D6777D8C675A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3400" y="2633760"/>
            <a:ext cx="852660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Trebuchet MS"/>
              </a:rPr>
              <a:t>Software Liv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F2D2-6C8D-4AA1-9ED1-5425695DC390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Richard Stallman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9640" y="1803240"/>
            <a:ext cx="4319640" cy="3237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13440" y="1800000"/>
            <a:ext cx="44272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Richard Stallma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Idealizador do movimento de software liv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Gnu Public Licen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http://www.fsf.or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ebuchet MS"/>
              </a:rPr>
              <a:t>Linus Torvalds</a:t>
            </a:r>
            <a:endParaRPr b="1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riador do Linux (1991)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Esforço colaborativo mais amplo e de maior sucesso na Interne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Revolucionário em todos os sentido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1979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bens Queiroz de Almeida</dc:creator>
  <dc:description/>
  <dc:language>en-US</dc:language>
  <cp:lastModifiedBy>Rubens Almeida</cp:lastModifiedBy>
  <dcterms:modified xsi:type="dcterms:W3CDTF">2011-03-02T01:22:23Z</dcterms:modified>
  <cp:revision>1</cp:revision>
  <dc:subject/>
  <dc:title/>
</cp:coreProperties>
</file>